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9080" y="671400"/>
            <a:ext cx="4479840" cy="336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55920"/>
            <a:ext cx="5486400" cy="40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11840"/>
            <a:ext cx="2971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511840"/>
            <a:ext cx="2971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C649-90E2-4979-BC91-0E4DD8D9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89080" y="671400"/>
            <a:ext cx="4479840" cy="33609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255920"/>
            <a:ext cx="5486400" cy="40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51220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31AD-53CF-4675-9839-541EF149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2BF-E5A6-4F2A-A1D5-A655D808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243-5392-4C25-9B71-E6ECDF9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663-11E1-4229-8419-78C986D1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43F-6783-45D2-BF86-2589C200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E9A-5CC3-4CBD-B786-3D66B45E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FBC-2356-4C82-8A45-4312CF0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6B9-1505-4877-88A7-B52ED74E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330-406B-4147-BE11-82D51271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D03-FE88-4331-80B2-EBA8BEC8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3B8-4834-425D-B6F2-FE43F09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F3C-FC4E-44E7-86F1-D4F1D08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B16-7D6E-48CA-A766-F2E9782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FB8C-E1E2-43D0-A493-6E128041F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181480" y="1066680"/>
            <a:ext cx="3886200" cy="67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1" lang="en-US" sz="3100" spc="-1" strike="noStrike">
                <a:solidFill>
                  <a:srgbClr val="008000"/>
                </a:solidFill>
                <a:latin typeface="AGaramond"/>
              </a:rPr>
              <a:t>Seniors</a:t>
            </a:r>
            <a:r>
              <a:rPr b="1" lang="en-US" sz="2500" spc="-1" strike="noStrike">
                <a:solidFill>
                  <a:srgbClr val="008000"/>
                </a:solidFill>
                <a:latin typeface="AGaramon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Garamond"/>
              </a:rPr>
              <a:t>Mayland Community College Coh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Garamond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Garamond"/>
              </a:rPr>
              <a:t>Integrated Thematic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Garamond"/>
              </a:rPr>
              <a:t>December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LMC_logo_stack_color.jpg"/>
          <p:cNvPicPr/>
          <p:nvPr/>
        </p:nvPicPr>
        <p:blipFill>
          <a:blip r:embed="rId1"/>
          <a:stretch/>
        </p:blipFill>
        <p:spPr>
          <a:xfrm>
            <a:off x="6172200" y="457200"/>
            <a:ext cx="17524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Rockwell"/>
              </a:rPr>
              <a:t>Lees-McRae College Seniors are proud to present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Rockwell"/>
              </a:rPr>
              <a:t>Integrated Thematic Units Fall 2011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0600" y="1905120"/>
          <a:ext cx="8871120" cy="4794120"/>
        </p:xfrm>
        <a:graphic>
          <a:graphicData uri="http://schemas.openxmlformats.org/drawingml/2006/table">
            <a:tbl>
              <a:tblPr/>
              <a:tblGrid>
                <a:gridCol w="260280"/>
                <a:gridCol w="1833840"/>
                <a:gridCol w="1638000"/>
                <a:gridCol w="565200"/>
                <a:gridCol w="352440"/>
                <a:gridCol w="1876680"/>
                <a:gridCol w="1836720"/>
                <a:gridCol w="507960"/>
              </a:tblGrid>
              <a:tr h="641160"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Decembe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December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Megan Hob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Renee Dun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The Wonderful Wizard of 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Stacey Ca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The Lost Col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Beth Pe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Native Americans of North Caro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Henry “Bud” Ga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Sequoia Kings Canyon Nation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Ayla Ar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Western 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Kim Crip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Happy Birth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Jason 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Cam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Brittany 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Gard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Melissa Ga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0:32:39Z</dcterms:created>
  <dc:creator>Margaret T Stewart</dc:creator>
  <dc:description/>
  <dc:language>en-US</dc:language>
  <cp:lastModifiedBy>Ginger McKinney</cp:lastModifiedBy>
  <cp:lastPrinted>2006-05-02T14:32:35Z</cp:lastPrinted>
  <dcterms:modified xsi:type="dcterms:W3CDTF">2011-12-06T15:51:34Z</dcterms:modified>
  <cp:revision>92</cp:revision>
  <dc:subject/>
  <dc:title>No Slide Title</dc:title>
</cp:coreProperties>
</file>